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6915-C991-4E81-8E1A-CC7AAFAD6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odine4health.com/body/thyroid/trh_tsh_th_loop_diagra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fcea-infotech.org/tag/symptoms-of-hypothyroidis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ampabayweightloss.org/LinkHelper.aspx?pTID=1&amp;gCID=2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-forums.com/index.php?topic=5243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lderlyelder.com/calcium_supplemen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upui.edu/~anatd502/lecture.f04/Endof04/Endocrine%20Syste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rainmadesimple.com/hypothalamu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dochick.wordpress.com/tag/pituitary-glan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ookfordiagnosis.com/mesh_info.php?term=Pituitary+Hormones%2C+Posterior&amp;lang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nswers.com/topic/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robcottingham.ca/cartoon/archive/place-your-bladders-in-the-locked-and-upright-posi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skdrmakkar.com/hyperth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31F-C184-4936-BC97-50D75B52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9071-24EA-4145-B352-C2C842C5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1A39-1BFA-40C6-B3EE-F0154A83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43A-D57B-4585-90AE-D0F6AF94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EFE-5EC4-45C7-86CE-C28C5A90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202-686F-49F9-8690-F8963222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38C-D1FD-4777-8114-B88D94F5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E86-086D-4E09-A436-25A110B3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20B-B07C-4628-A149-9E9D71AD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65B-CD5B-4743-B892-4B33F5D5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03A-CC35-45AA-83D9-C59B90D0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C1F-1EF0-447C-B78D-E69649F0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51A0-6CEF-4209-B1C8-1E00DE98E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ocrine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yroxine contains 4 iodine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dine deficiency in diet leads to goiters…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his not an issue in North Ame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59200" y="1981080"/>
            <a:ext cx="3586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thyroid G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thyroid hormone (P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H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iton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rom the thyroid) work together to regulate blood calc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thyroid mal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the effects of too much P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little P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2139840"/>
            <a:ext cx="380988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1760" y="609480"/>
            <a:ext cx="3660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of 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 cells produ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ohorm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travel through the blood to the pituitary 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2660760"/>
            <a:ext cx="38098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 glan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below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ajor lobes (anterior &amp; pos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2298600"/>
            <a:ext cx="38098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rior &amp; Posterior Pitui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9200" y="1981080"/>
            <a:ext cx="430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ion of most hormones is regulated by negative feedback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2695680"/>
            <a:ext cx="38098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 feedback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03520" y="1981080"/>
            <a:ext cx="573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“diuretic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ost common are caffeine and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uretics make you urinate frequ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24240" y="1600200"/>
            <a:ext cx="4503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yroxine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lipid-soluble hormone that increases metabolic rate in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s cell and is converted to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4:17:31Z</dcterms:created>
  <dc:creator>rubina khan</dc:creator>
  <dc:description/>
  <dc:language>en-US</dc:language>
  <cp:lastModifiedBy>rubina khan</cp:lastModifiedBy>
  <dcterms:modified xsi:type="dcterms:W3CDTF">2013-01-08T05:19:15Z</dcterms:modified>
  <cp:revision>47</cp:revision>
  <dc:subject/>
  <dc:title>The Endocrine Glands</dc:title>
</cp:coreProperties>
</file>